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  <p:sldId id="278" r:id="rId47"/>
    <p:sldId id="279" r:id="rId48"/>
    <p:sldId id="280" r:id="rId49"/>
    <p:sldId id="28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slide" Target="slides/slide23.xml"/><Relationship Id="rId48" Type="http://schemas.openxmlformats.org/officeDocument/2006/relationships/slide" Target="slides/slide24.xml"/><Relationship Id="rId49" Type="http://schemas.openxmlformats.org/officeDocument/2006/relationships/slide" Target="slides/slide25.xml"/><Relationship Id="rId50" Type="http://schemas.openxmlformats.org/officeDocument/2006/relationships/slide" Target="slides/slide26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E929-4614-4ECE-907F-1E2D91322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B342-A0B7-4A7A-AACC-895C842A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C872B-ECD0-43BA-8F96-982BEF5B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FA1DFA-CE78-447B-90F2-95BA261B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28399-E5A2-48A8-8977-0837C058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A9BF3-6E1F-44BF-A6BA-73C3717E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E2EAD7-67DA-4E12-99D1-2672AD64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4941C-D7D6-4935-97D2-87E6B2BD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878A7-9C72-4DA2-9725-C2050FD1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44366-F30E-4002-97A7-686130C8A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5D5387-BBA0-459E-94F2-43E24D96D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47DBD2-780D-4702-96A4-D3872DF2B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CECD-61FF-471F-9C59-A75ABD6A2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8DAD74-BC79-476A-9163-0F6BB859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0037F-1E82-490E-81C1-66AB4991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978AE1-EF22-4C76-9E80-9F3A0BAD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F27248-ABF8-4DD9-A2B0-D243DAF9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4CBD36-3AD0-4066-BE36-FDF8CDA7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3D4BD0-1F4D-4770-9271-B41155D1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70FE3-A358-4DC4-875A-DAC0C9AE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C9173-4047-4805-B7F0-A09A3EF1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B5F855-3380-498E-A1A0-4922DF50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F7D464-537C-4449-9518-D1BEA229C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419B-DBDA-4595-9A9E-85B65ECE9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A23083-D65A-4ED1-8006-74F340C31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1D835-E0AA-43E8-935A-A43B1FDAD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F8AC8-5546-4FCC-9CAB-8185E075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12B2D-89A5-4127-A77D-F20A9F59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42B15-08E2-4BFA-8F59-923B97C8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AFE94-1977-453C-B2CC-9AEF3F70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52E8D-A9A5-46F9-A0C9-C6BEC747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640EF-215B-4956-95B5-98616682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699E9-E9AF-4EB2-8C5E-373C0731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C3F83-3753-47CA-A9D4-965811BC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1110-E933-4970-AD57-D57A0D393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44ABA-045D-4662-A88A-29EC1D5C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B2842A-055C-448E-98A7-C5EC5A8FF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F052B-65A0-486F-86A7-6557FCF27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7D2302-507D-4D18-B68C-4C640F675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7DDBAD-1862-4418-A157-7C9834F6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366F70-E79E-474A-A092-14643361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C92A90-550B-4278-A9FE-B83C9F4E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13070F-7851-4429-AD5E-37D72B1C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B3DB6B-98FD-429D-9193-2DB91CF4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CB2F3C-338F-491F-847F-42B92029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1D0C-2896-4EAB-9D21-0A96F643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2D4514-C7AA-45BB-BAB2-C8F0941D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D64567-CCD2-4099-8E50-60EAA417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EC8EC4-4C12-4102-9BC0-2A62FAA7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CF524E-205D-43D1-B9C1-1F4F34110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E1FE7F-E389-40FF-8241-7A1E44AD8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AD53D5-6FC3-4053-B9D2-9FD83804B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EF82E7-B588-4325-877B-7B585860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0E2A94-0D46-47B5-ABCB-97B39025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313DA0-7AB5-490F-9E41-0445C545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8FAE5D-F89B-4A41-AA7B-E27A0D30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A5CC-0298-4D94-8C5A-E0E52A0F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0AAC44-1181-42DB-95F6-4DDF727B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517775-BE26-4062-B3A1-FC81AEC7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7B77EB-1B8F-48C7-8E34-137148CA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1A2108-FED6-4D8C-8F49-CE05E0EE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76E653-8DD5-48C9-962E-27D3C0FB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E38FBB-529F-4EB1-8261-29D2E5221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D460E9-0228-4E09-A93F-DC3270CDD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7B2A50-DBF0-4DE4-9B9B-C52DD1301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1519E7-216F-4E2D-A064-97517241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0745C5-91F9-4FC9-B7A8-A5AFEC21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D407-9FE2-45D6-A92C-0222C2A6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21AF03-8586-4119-9ABB-C9F730D5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60E7B6-78C3-4857-8BD5-73040E1C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2FD4B7-E323-4891-A7CE-FA43DFE5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ABECAC-C45C-4897-B8ED-BDBA8680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96BF0D-B8C1-4C1E-9283-A154A157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6B8D83-7C39-49C6-8968-09D41DD0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12C8E3-12A2-4080-82FC-C0D25EFE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948449-665E-4855-BC62-8C9094417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605241-E748-4A64-AC16-B5D4510CB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909FC2-CE34-4B81-A94E-E7C39E179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FF757-33A3-4879-B67E-61AA1471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CEBF4E-1BA0-451C-8251-44C189C5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0F4C8F-71D8-4C92-B82C-5EFADE6A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479645-66F0-49AE-B419-67FD9DEB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5636F6-9CB4-4C34-810E-8A9CF729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E2AF84-42AE-4779-BE3B-200CBF12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2C0962-A210-4967-AF56-09803144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B3A107-0485-4D87-8D4E-42289A35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A0EED1-5511-4911-A046-5A2578F4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A38F8F-D346-45AB-A41E-4941B331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1ECAD9-98AD-498D-8E49-8C52B3058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00B4-B079-4008-974E-CF1D1D8B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A96B08-9A31-4B21-A054-9D234E7A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1605EC-4212-433A-8D51-34EDD355E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B467CA-A7CF-4088-9A0E-1CBF2CEC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EB39AF-7057-4608-89CB-5681ED2B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2EB783-A078-404B-8E5E-F02C0FB6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D73FED-8845-4AD5-85FA-A6DB6A20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102FA3-1020-4299-9B72-EB87B02A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145F5C-6E02-486B-9230-B795AE25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61587D-5293-42C1-9B76-72A1B2EB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49821E-7C6E-40D9-AD6F-5C1A84F2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1847-05A3-4B03-A322-726B1813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077D65-E4EC-4F8C-B9D0-D3ED3DBD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4B5F75-BE42-4045-8A91-ED9F1D033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ABFAA7-358D-4103-A4C6-CBF66AD62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BC337D-76E6-4C3C-B0EB-8331A059F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1E1025-89AB-4B84-BD90-72838540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823112-B420-4FBE-9204-2B8E345F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8B9549-0E23-4E24-AF66-7188B70C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655498-942D-4DB7-BABE-1DB77722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9BB556-587A-4F25-B554-83EA09A3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A92865-4FBF-4843-8CA7-13EB7398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904C-D2B3-4A04-9D2B-40247C4F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98FA-7CF8-4872-A0A3-6BD59C23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C10012-5B59-4E64-84DF-FF41233D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8AA5C8-D3F3-4B6C-BF05-5CBEE42A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E5D4F0-BD14-4280-903C-59705C47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5D515E-04C5-40FE-BB3C-64A58236F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AB1EF8-D2F8-4CE2-8DB9-FA635A590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D66DA5-E998-4776-A969-F670862AF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03317C-321B-471C-B3B2-24140569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6DABF5-D6DF-4CFE-97C8-9854E88A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EB3D2E-4383-4980-BFA0-99D3A5D6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DF00BA-9E5D-4BF7-8267-A2E1C93E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97EC-A007-42AC-96C4-1B700BF9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91D6DE-342D-443B-AFDE-B74B8726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179C02-25E7-4062-9418-06456696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470B6F-FF74-4927-998D-9795C02B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C5DF03-D0E0-416B-A1B5-1F3A7431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746085-9D8A-4E89-B925-23D6C3E8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FF0BCF-A14B-428F-A95E-70B044E12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0A59EE-2FFC-484E-8DA3-2E0080734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D8B2CE-E57F-4071-9315-192DEB0A5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84E54D-3F6F-4C3F-9B26-EE3D7571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D951FD-AD52-408E-B763-ADAB7A7F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5094-23B2-4421-B86F-9404071B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5A2125-6947-4E23-8CE5-CA7B9908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0481AD-51F6-4BC5-8B9E-381BFCE5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466AF7-C5C0-4A89-84BA-33EB53E5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A27527-06F8-498E-B8CE-26197B7F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3BA1DB-7450-4234-AF3E-5ABE77BF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FB4652-2A77-4421-A5AE-9001E457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9C7384-7671-40AD-A3B2-E418EA95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6EDAA2-959C-45B6-B2CA-79881D4EE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335F72-5005-4984-AB43-12C74AA72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DE1721-A092-4B01-AEAE-296F3332B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B87DD-F491-49DD-8DC5-8E887AE4A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F60D68-E08B-4B30-92BA-08EEBD98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3F6869-CC9C-47B6-9537-F08B4716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EA3D4D-95C7-49FA-A451-EA625FF2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D59E2F-9364-4ABD-8618-4A78DB42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ECED1F-B155-4F42-96FD-DE25694D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97E90A-CFC9-498D-82CB-6800168C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B4C8B3-31D3-40C0-AB44-8D995156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B9A8A3-3FC6-4642-B092-F2C5E03E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4930BD-F526-4AE0-B571-4357EB44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BD1CFC-2AC9-4C72-A8ED-64A60EB6F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2B42-037B-4EE9-95F6-13BA9EE28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07E275-7C17-4709-B2E4-AAE465F7B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471CA2-BE44-43BE-A934-3E9E9E13C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30FAAB-36BA-45F0-8200-397B7BF2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F8ED06-22A8-4CBB-9E49-36F80C59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2FDE7A-D060-4B06-BC93-B081D760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5C20EC-3817-4A9F-8A7C-C824F54B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76C373-A933-43E4-BB0D-72468A0A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22A018-8211-4149-94E6-7D0A50CE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BD8D80-6F36-4913-8064-13668B5D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51FC28-D1D4-4311-BB58-1EF2CDF2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A7640-51D3-4F1F-8AFB-2F20A678A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853583-4D52-409D-B213-1D49D14B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F1DDA0-4D6E-4E88-B521-4F9B7AFF8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9B36B4-A1C6-4E7B-9C59-1AB4E1A23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AA33AE-C643-4CB1-BD39-8C63F75EB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F3DF3D-09A3-4A62-BB51-F9736C95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CCEBC5-5D91-4F79-BCAC-CBB3BC9A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636C09-0BF8-489B-81F3-6FB2E09A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688307-5358-443F-9451-E4E9A7F3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21A868-400B-4E5F-99AA-BCD64EE8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56058F-D2C4-4B80-A72B-A48B6D96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8497E-09DC-49C4-A27A-736E718F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D2EA5F-C923-4C3D-8CC6-18665FE4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079B0F-365C-4151-9D1D-E5E06058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980A99-3347-4468-9D5A-F7825162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D1E742-AD25-4233-892B-C308B3C8C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D25369-4B42-41BA-8695-528720EDE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4FAC59-1F68-4804-B1B3-8A7222B39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A35FEE-2269-4445-80A6-DDF4A1BB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2BF121-AF49-4E2A-893E-F757DCD8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F3122B-DB3B-492F-982D-A72E24D5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688781-46DB-44F6-B6EB-2398150C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D18C6-3577-40CE-8335-78CF180B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928C30-9B89-4BBE-81F1-97822C1D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9C1BE0-EA86-49BC-A2D8-7B7D2869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039849-0E2B-467A-BF04-8EDF588E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A47F40-7BDD-4AF8-9418-FBC017EC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5ABD14-DEA4-446D-8191-F3A4CDA5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EBD326-7DEC-434E-9AC2-52A27C328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F17269-7C60-4B0F-91BF-686732000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45566-576C-4BC9-B685-FAF84522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939D5-BAEC-47AB-9381-EF42045D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81BC-4A2F-459E-AE7A-7008E4A0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6F34E-ACEE-4173-ACCD-966A94C2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6769A-DB1F-44AE-953E-9892CFE8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C7E23-AF72-47CE-92E7-D34C4DFA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465BD-E860-44C0-B598-9B690550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74846-48D5-42B6-B41D-BF312649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A00D2-483E-420F-8AF1-47FB28FDC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D903B-6795-4821-A433-0A36D0DAC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0CA4B-DD63-4C12-B07B-814B136BE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3A5CE-6E00-4939-B415-A45A5372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35BA8-EFFE-4F02-96F9-DE9EDDA1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6C2F-A089-4066-874C-B81451EE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643FC-9E55-47A2-B7C1-3C223E38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208D5-5A9C-4732-8C85-9019B449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D66A6-19BE-4E77-AF8D-509E28BF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A37B8-9A10-4062-9091-2B41B0B2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988CE-D8DE-4DA7-B79C-22647CE1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DF292-CC02-4290-8BDB-A6A1D974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A21A9-668B-408A-ADC6-C58BC465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D1718-9AFD-438A-BF54-A4998826B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DF275-109F-4843-8733-4F96FB6C5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DC62D-107F-4B88-A56C-69105BCFA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A0B3-A652-4DF3-B0AA-08D975EF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87E67-EE6B-4238-8F77-7A43C2EE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2D5BA-964D-4636-8FC5-41FA6D38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84C51-7BBF-4DCD-9D5A-6C5940B6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6A167-C051-4186-8338-70110141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602A4-83BE-417A-97DC-0D3797E3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36CB2-F003-49BA-A930-1C33BA07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C7429-40EB-4828-8AC0-56D44469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B398A-8736-496E-8A57-EFFC30BD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D07C5-54CB-43FB-983B-B81ACB2C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B1A38-6D2F-483A-BF09-18E303269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6E7C-FC80-4150-9FFB-293559C3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66F1A-A998-4AC6-BC58-2A4A911FB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9C27D-ED69-4054-A944-0F1237CB9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88593-F578-4448-BD85-D0962EB0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7C77C-CEFB-470B-A77F-AC6404CC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83CD2-852D-40D0-B1C8-3063E585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A19D5-375C-4914-B412-89588416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FDAEF-4296-4F91-A54A-8C97001C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7FD4C-9AF0-4CDD-8E3B-E1C75B96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E80C4-EA24-4F52-B44B-9358C37D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6A278-8E8F-42F8-96D6-7241670C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4A31-90C3-44E3-80A3-A284EA07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73680-7B1F-4117-B387-C4507F45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1BFD4-51FF-4EB1-8736-4DABDADE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1FD0B-CA5B-4B2E-A227-C668A1869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C3376-55CA-42DD-AB47-00335D0B4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8FB70-58D4-4F0B-B226-3236A3A0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4D892-6390-4E26-A2DF-3BF0C170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27798-2B01-4A83-825A-577229F7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60C3F-B0E4-4DE5-AE97-75BD0F71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C59ED-7F26-45F8-B468-CD4D29BC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7364C-3805-40DF-9455-99588872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3FF3-F5BC-476E-AA45-81FAC8D4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AB9BB-5CDF-4F47-8302-3E22AD55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B43DD-FF5D-43C9-A13B-DC4D346A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4C605-A88A-4464-BCCD-8123052B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B747C-6BE6-4827-9980-666FFD0FC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1B743-B40D-4633-B171-629EF3BDF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FC1C3-2272-4C36-BDB1-49FC7D37B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22AD3-8933-4D3E-A1A5-297450EA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FA4A5-C082-4F4E-B3E7-E8177146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2CBE4-E193-4E31-99DC-BC72FE8C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4147A-8C44-4406-A54E-33D1EED9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F1D8-B2B8-434A-80BB-D9ABE107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C8F1D-C9D9-495F-A535-0833D113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3C113-6F1A-4B28-BA3E-FB0CE104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B3E3E-49EA-4D98-8CA2-A9CCDFB6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191F4-2AF2-417D-B12C-8AA96A43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2F64C-BDDC-4651-84E4-2E20953A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5BFAD-27B1-4D3C-A39D-AF9036E98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14172-ECA8-42D5-80BD-E8843AFB3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78237E-2ADF-46E2-AF2A-F4BA68B18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08671-A25B-4974-B18A-9E7520C9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FFA87-6BEF-493C-B924-BA5F015B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0B3A-1D7D-4188-9BCB-BC941FCD9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D321-4CA1-46BF-8E53-5217B85646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75F5-64A2-4D56-8641-82FCC73756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8799-E9D0-4403-B82F-923DC46327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CD1F-B457-41EC-ACF9-DA4062E9DC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90F0-ED06-4A46-81DA-36B9BD508B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CBBD-1C96-4F47-8824-F5E869694C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DF63-70CA-4DB9-BD7B-77BB51B8B8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F9F8-46A9-4F74-8871-619CBE72E5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32AA-5F2C-4F96-96BB-3477661715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F292-A2C9-437E-9887-DDA71D3F81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8F83-6950-4A4C-A521-8CFA335254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3600-BC92-4293-9DAF-191FB1EC9F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6FE9-549D-4EAC-BC14-DF8418919F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341F-0F3B-4868-B343-1550EB452A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23DF-FC9E-4B1D-9094-A244127A2C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0C83-EAB2-425B-94A0-8E9CBF113C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12FA-8EEA-47D1-8430-44A8A078D9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2C75-7B95-4FC2-96D6-3E6E204430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1B6F-A0DD-41F7-BB58-6B8A889521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B531-07C0-412B-BDB2-18D05A56FB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B5A9-4385-4CD0-B59E-827661793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0B30-8F23-4BD6-B34B-5F82E16603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FC72-00CE-46CB-97EF-0B4003BF27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B361-B62A-46BD-A08B-A0EF991504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DE3B-D999-4354-8E3B-346062CDED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30AC-7241-4B6F-B633-92F9327489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5621-F0D1-463B-8860-BB7E64DF3B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E67C-4C87-4C06-B24E-7CD6225CDA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5484-D8F5-4FCD-B5F0-EAEBFC4A7E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B1CA-9E50-4F30-B569-1EA62EC9EE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F686-7174-405E-A539-AFEF1581A7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649F-2CE5-4DE4-9EC1-47E088C92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5FBB-2BCD-49E8-B832-7A37865EF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6D70-B0E5-4FC1-8505-45C5A2B90D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96CB-9EA9-4D19-B78D-EC6E34351B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CD12-32DC-4BCF-9CB0-EDEE9BC7BA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3438-999A-4785-8469-96E0631DC5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79AC-A718-435F-A24A-C161EBA427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DAD8-D6EC-4124-938D-1F7E87112F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CA1A-066C-4F6F-86F3-544964FCA3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2E6F-EFC6-4ECB-883B-4BC825E272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Picture 2" descr=""/>
          <p:cNvPicPr/>
          <p:nvPr/>
        </p:nvPicPr>
        <p:blipFill>
          <a:blip r:embed="rId1"/>
          <a:stretch/>
        </p:blipFill>
        <p:spPr>
          <a:xfrm>
            <a:off x="1271520" y="2928960"/>
            <a:ext cx="66009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图片 1" descr=""/>
          <p:cNvPicPr/>
          <p:nvPr/>
        </p:nvPicPr>
        <p:blipFill>
          <a:blip r:embed="rId1"/>
          <a:stretch/>
        </p:blipFill>
        <p:spPr>
          <a:xfrm>
            <a:off x="520560" y="762120"/>
            <a:ext cx="81043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图片 2" descr=""/>
          <p:cNvPicPr/>
          <p:nvPr/>
        </p:nvPicPr>
        <p:blipFill>
          <a:blip r:embed="rId1"/>
          <a:stretch/>
        </p:blipFill>
        <p:spPr>
          <a:xfrm>
            <a:off x="266760" y="878040"/>
            <a:ext cx="8610480" cy="5646600"/>
          </a:xfrm>
          <a:prstGeom prst="rect">
            <a:avLst/>
          </a:prstGeom>
          <a:ln w="0">
            <a:noFill/>
          </a:ln>
        </p:spPr>
      </p:pic>
      <p:pic>
        <p:nvPicPr>
          <p:cNvPr id="1127" name="图片 2" descr=""/>
          <p:cNvPicPr/>
          <p:nvPr/>
        </p:nvPicPr>
        <p:blipFill>
          <a:blip r:embed="rId2"/>
          <a:stretch/>
        </p:blipFill>
        <p:spPr>
          <a:xfrm>
            <a:off x="6516720" y="6051600"/>
            <a:ext cx="223200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图片 1" descr=""/>
          <p:cNvPicPr/>
          <p:nvPr/>
        </p:nvPicPr>
        <p:blipFill>
          <a:blip r:embed="rId1"/>
          <a:stretch/>
        </p:blipFill>
        <p:spPr>
          <a:xfrm>
            <a:off x="281160" y="981000"/>
            <a:ext cx="8580240" cy="5657760"/>
          </a:xfrm>
          <a:prstGeom prst="rect">
            <a:avLst/>
          </a:prstGeom>
          <a:ln w="0">
            <a:noFill/>
          </a:ln>
        </p:spPr>
      </p:pic>
      <p:pic>
        <p:nvPicPr>
          <p:cNvPr id="1129" name="图片 2" descr=""/>
          <p:cNvPicPr/>
          <p:nvPr/>
        </p:nvPicPr>
        <p:blipFill>
          <a:blip r:embed="rId2"/>
          <a:stretch/>
        </p:blipFill>
        <p:spPr>
          <a:xfrm>
            <a:off x="1332000" y="907920"/>
            <a:ext cx="3168720" cy="428760"/>
          </a:xfrm>
          <a:prstGeom prst="rect">
            <a:avLst/>
          </a:prstGeom>
          <a:ln w="0">
            <a:noFill/>
          </a:ln>
        </p:spPr>
      </p:pic>
      <p:pic>
        <p:nvPicPr>
          <p:cNvPr id="1130" name="图片 3" descr=""/>
          <p:cNvPicPr/>
          <p:nvPr/>
        </p:nvPicPr>
        <p:blipFill>
          <a:blip r:embed="rId3"/>
          <a:stretch/>
        </p:blipFill>
        <p:spPr>
          <a:xfrm>
            <a:off x="6875640" y="1341360"/>
            <a:ext cx="2017440" cy="428760"/>
          </a:xfrm>
          <a:prstGeom prst="rect">
            <a:avLst/>
          </a:prstGeom>
          <a:ln w="0">
            <a:noFill/>
          </a:ln>
        </p:spPr>
      </p:pic>
      <p:pic>
        <p:nvPicPr>
          <p:cNvPr id="1131" name="图片 4" descr=""/>
          <p:cNvPicPr/>
          <p:nvPr/>
        </p:nvPicPr>
        <p:blipFill>
          <a:blip r:embed="rId4"/>
          <a:stretch/>
        </p:blipFill>
        <p:spPr>
          <a:xfrm>
            <a:off x="1341360" y="1803240"/>
            <a:ext cx="3240000" cy="428760"/>
          </a:xfrm>
          <a:prstGeom prst="rect">
            <a:avLst/>
          </a:prstGeom>
          <a:ln w="0">
            <a:noFill/>
          </a:ln>
        </p:spPr>
      </p:pic>
      <p:pic>
        <p:nvPicPr>
          <p:cNvPr id="1132" name="图片 5" descr=""/>
          <p:cNvPicPr/>
          <p:nvPr/>
        </p:nvPicPr>
        <p:blipFill>
          <a:blip r:embed="rId5"/>
          <a:stretch/>
        </p:blipFill>
        <p:spPr>
          <a:xfrm>
            <a:off x="5904000" y="2224080"/>
            <a:ext cx="2484360" cy="428760"/>
          </a:xfrm>
          <a:prstGeom prst="rect">
            <a:avLst/>
          </a:prstGeom>
          <a:ln w="0">
            <a:noFill/>
          </a:ln>
        </p:spPr>
      </p:pic>
      <p:pic>
        <p:nvPicPr>
          <p:cNvPr id="1133" name="图片 6" descr=""/>
          <p:cNvPicPr/>
          <p:nvPr/>
        </p:nvPicPr>
        <p:blipFill>
          <a:blip r:embed="rId6"/>
          <a:stretch/>
        </p:blipFill>
        <p:spPr>
          <a:xfrm>
            <a:off x="755640" y="6230880"/>
            <a:ext cx="820908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图片 1" descr=""/>
          <p:cNvPicPr/>
          <p:nvPr/>
        </p:nvPicPr>
        <p:blipFill>
          <a:blip r:embed="rId1"/>
          <a:stretch/>
        </p:blipFill>
        <p:spPr>
          <a:xfrm>
            <a:off x="1233360" y="1052640"/>
            <a:ext cx="6677280" cy="3446280"/>
          </a:xfrm>
          <a:prstGeom prst="rect">
            <a:avLst/>
          </a:prstGeom>
          <a:ln w="0">
            <a:noFill/>
          </a:ln>
        </p:spPr>
      </p:pic>
      <p:pic>
        <p:nvPicPr>
          <p:cNvPr id="1135" name="图片 2" descr=""/>
          <p:cNvPicPr/>
          <p:nvPr/>
        </p:nvPicPr>
        <p:blipFill>
          <a:blip r:embed="rId2"/>
          <a:stretch/>
        </p:blipFill>
        <p:spPr>
          <a:xfrm>
            <a:off x="611280" y="1055520"/>
            <a:ext cx="8208720" cy="428760"/>
          </a:xfrm>
          <a:prstGeom prst="rect">
            <a:avLst/>
          </a:prstGeom>
          <a:ln w="0">
            <a:noFill/>
          </a:ln>
        </p:spPr>
      </p:pic>
      <p:pic>
        <p:nvPicPr>
          <p:cNvPr id="1136" name="图片 3" descr=""/>
          <p:cNvPicPr/>
          <p:nvPr/>
        </p:nvPicPr>
        <p:blipFill>
          <a:blip r:embed="rId3"/>
          <a:stretch/>
        </p:blipFill>
        <p:spPr>
          <a:xfrm>
            <a:off x="611280" y="1484280"/>
            <a:ext cx="8208720" cy="792360"/>
          </a:xfrm>
          <a:prstGeom prst="rect">
            <a:avLst/>
          </a:prstGeom>
          <a:ln w="0">
            <a:noFill/>
          </a:ln>
        </p:spPr>
      </p:pic>
      <p:pic>
        <p:nvPicPr>
          <p:cNvPr id="1137" name="图片 4" descr=""/>
          <p:cNvPicPr/>
          <p:nvPr/>
        </p:nvPicPr>
        <p:blipFill>
          <a:blip r:embed="rId4"/>
          <a:stretch/>
        </p:blipFill>
        <p:spPr>
          <a:xfrm>
            <a:off x="539640" y="2287440"/>
            <a:ext cx="8209080" cy="428760"/>
          </a:xfrm>
          <a:prstGeom prst="rect">
            <a:avLst/>
          </a:prstGeom>
          <a:ln w="0">
            <a:noFill/>
          </a:ln>
        </p:spPr>
      </p:pic>
      <p:pic>
        <p:nvPicPr>
          <p:cNvPr id="1138" name="图片 5" descr=""/>
          <p:cNvPicPr/>
          <p:nvPr/>
        </p:nvPicPr>
        <p:blipFill>
          <a:blip r:embed="rId5"/>
          <a:stretch/>
        </p:blipFill>
        <p:spPr>
          <a:xfrm>
            <a:off x="539640" y="2784600"/>
            <a:ext cx="8209080" cy="428400"/>
          </a:xfrm>
          <a:prstGeom prst="rect">
            <a:avLst/>
          </a:prstGeom>
          <a:ln w="0">
            <a:noFill/>
          </a:ln>
        </p:spPr>
      </p:pic>
      <p:pic>
        <p:nvPicPr>
          <p:cNvPr id="1139" name="图片 6" descr=""/>
          <p:cNvPicPr/>
          <p:nvPr/>
        </p:nvPicPr>
        <p:blipFill>
          <a:blip r:embed="rId6"/>
          <a:stretch/>
        </p:blipFill>
        <p:spPr>
          <a:xfrm>
            <a:off x="763560" y="3213000"/>
            <a:ext cx="8209080" cy="792360"/>
          </a:xfrm>
          <a:prstGeom prst="rect">
            <a:avLst/>
          </a:prstGeom>
          <a:ln w="0">
            <a:noFill/>
          </a:ln>
        </p:spPr>
      </p:pic>
      <p:pic>
        <p:nvPicPr>
          <p:cNvPr id="1140" name="图片 7" descr=""/>
          <p:cNvPicPr/>
          <p:nvPr/>
        </p:nvPicPr>
        <p:blipFill>
          <a:blip r:embed="rId7"/>
          <a:stretch/>
        </p:blipFill>
        <p:spPr>
          <a:xfrm>
            <a:off x="692280" y="4076640"/>
            <a:ext cx="82087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1" name="图片 1" descr=""/>
          <p:cNvPicPr/>
          <p:nvPr/>
        </p:nvPicPr>
        <p:blipFill>
          <a:blip r:embed="rId1"/>
          <a:stretch/>
        </p:blipFill>
        <p:spPr>
          <a:xfrm>
            <a:off x="366840" y="873000"/>
            <a:ext cx="8408880" cy="5743800"/>
          </a:xfrm>
          <a:prstGeom prst="rect">
            <a:avLst/>
          </a:prstGeom>
          <a:ln w="0">
            <a:noFill/>
          </a:ln>
        </p:spPr>
      </p:pic>
      <p:pic>
        <p:nvPicPr>
          <p:cNvPr id="1142" name="图片 2" descr=""/>
          <p:cNvPicPr/>
          <p:nvPr/>
        </p:nvPicPr>
        <p:blipFill>
          <a:blip r:embed="rId2"/>
          <a:stretch/>
        </p:blipFill>
        <p:spPr>
          <a:xfrm>
            <a:off x="7956720" y="2162160"/>
            <a:ext cx="43164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图片 1" descr=""/>
          <p:cNvPicPr/>
          <p:nvPr/>
        </p:nvPicPr>
        <p:blipFill>
          <a:blip r:embed="rId1"/>
          <a:stretch/>
        </p:blipFill>
        <p:spPr>
          <a:xfrm>
            <a:off x="447840" y="858960"/>
            <a:ext cx="8400960" cy="5837040"/>
          </a:xfrm>
          <a:prstGeom prst="rect">
            <a:avLst/>
          </a:prstGeom>
          <a:ln w="0">
            <a:noFill/>
          </a:ln>
        </p:spPr>
      </p:pic>
      <p:pic>
        <p:nvPicPr>
          <p:cNvPr id="1144" name="图片 2" descr=""/>
          <p:cNvPicPr/>
          <p:nvPr/>
        </p:nvPicPr>
        <p:blipFill>
          <a:blip r:embed="rId2"/>
          <a:stretch/>
        </p:blipFill>
        <p:spPr>
          <a:xfrm>
            <a:off x="7975440" y="1693800"/>
            <a:ext cx="43344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5" name="图片 1" descr=""/>
          <p:cNvPicPr/>
          <p:nvPr/>
        </p:nvPicPr>
        <p:blipFill>
          <a:blip r:embed="rId1"/>
          <a:stretch/>
        </p:blipFill>
        <p:spPr>
          <a:xfrm>
            <a:off x="352440" y="1069920"/>
            <a:ext cx="8439120" cy="5457960"/>
          </a:xfrm>
          <a:prstGeom prst="rect">
            <a:avLst/>
          </a:prstGeom>
          <a:ln w="0">
            <a:noFill/>
          </a:ln>
        </p:spPr>
      </p:pic>
      <p:pic>
        <p:nvPicPr>
          <p:cNvPr id="1146" name="图片 2" descr=""/>
          <p:cNvPicPr/>
          <p:nvPr/>
        </p:nvPicPr>
        <p:blipFill>
          <a:blip r:embed="rId2"/>
          <a:stretch/>
        </p:blipFill>
        <p:spPr>
          <a:xfrm>
            <a:off x="3708360" y="6031080"/>
            <a:ext cx="79236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7" name="图片 1" descr=""/>
          <p:cNvPicPr/>
          <p:nvPr/>
        </p:nvPicPr>
        <p:blipFill>
          <a:blip r:embed="rId1"/>
          <a:stretch/>
        </p:blipFill>
        <p:spPr>
          <a:xfrm>
            <a:off x="685800" y="911160"/>
            <a:ext cx="7772400" cy="5515200"/>
          </a:xfrm>
          <a:prstGeom prst="rect">
            <a:avLst/>
          </a:prstGeom>
          <a:ln w="0">
            <a:noFill/>
          </a:ln>
        </p:spPr>
      </p:pic>
      <p:pic>
        <p:nvPicPr>
          <p:cNvPr id="1148" name="图片 2" descr=""/>
          <p:cNvPicPr/>
          <p:nvPr/>
        </p:nvPicPr>
        <p:blipFill>
          <a:blip r:embed="rId2"/>
          <a:stretch/>
        </p:blipFill>
        <p:spPr>
          <a:xfrm>
            <a:off x="684360" y="1314360"/>
            <a:ext cx="8208720" cy="428760"/>
          </a:xfrm>
          <a:prstGeom prst="rect">
            <a:avLst/>
          </a:prstGeom>
          <a:ln w="0">
            <a:noFill/>
          </a:ln>
        </p:spPr>
      </p:pic>
      <p:pic>
        <p:nvPicPr>
          <p:cNvPr id="1149" name="图片 3" descr=""/>
          <p:cNvPicPr/>
          <p:nvPr/>
        </p:nvPicPr>
        <p:blipFill>
          <a:blip r:embed="rId3"/>
          <a:stretch/>
        </p:blipFill>
        <p:spPr>
          <a:xfrm>
            <a:off x="611280" y="1844640"/>
            <a:ext cx="8208720" cy="720720"/>
          </a:xfrm>
          <a:prstGeom prst="rect">
            <a:avLst/>
          </a:prstGeom>
          <a:ln w="0">
            <a:noFill/>
          </a:ln>
        </p:spPr>
      </p:pic>
      <p:pic>
        <p:nvPicPr>
          <p:cNvPr id="1150" name="图片 4" descr=""/>
          <p:cNvPicPr/>
          <p:nvPr/>
        </p:nvPicPr>
        <p:blipFill>
          <a:blip r:embed="rId4"/>
          <a:stretch/>
        </p:blipFill>
        <p:spPr>
          <a:xfrm>
            <a:off x="684360" y="2568600"/>
            <a:ext cx="8208720" cy="428760"/>
          </a:xfrm>
          <a:prstGeom prst="rect">
            <a:avLst/>
          </a:prstGeom>
          <a:ln w="0">
            <a:noFill/>
          </a:ln>
        </p:spPr>
      </p:pic>
      <p:pic>
        <p:nvPicPr>
          <p:cNvPr id="1151" name="图片 5" descr=""/>
          <p:cNvPicPr/>
          <p:nvPr/>
        </p:nvPicPr>
        <p:blipFill>
          <a:blip r:embed="rId5"/>
          <a:stretch/>
        </p:blipFill>
        <p:spPr>
          <a:xfrm>
            <a:off x="539640" y="2997360"/>
            <a:ext cx="8209080" cy="428400"/>
          </a:xfrm>
          <a:prstGeom prst="rect">
            <a:avLst/>
          </a:prstGeom>
          <a:ln w="0">
            <a:noFill/>
          </a:ln>
        </p:spPr>
      </p:pic>
      <p:pic>
        <p:nvPicPr>
          <p:cNvPr id="1152" name="图片 6" descr=""/>
          <p:cNvPicPr/>
          <p:nvPr/>
        </p:nvPicPr>
        <p:blipFill>
          <a:blip r:embed="rId6"/>
          <a:stretch/>
        </p:blipFill>
        <p:spPr>
          <a:xfrm>
            <a:off x="539640" y="3511440"/>
            <a:ext cx="8209080" cy="792360"/>
          </a:xfrm>
          <a:prstGeom prst="rect">
            <a:avLst/>
          </a:prstGeom>
          <a:ln w="0">
            <a:noFill/>
          </a:ln>
        </p:spPr>
      </p:pic>
      <p:pic>
        <p:nvPicPr>
          <p:cNvPr id="1153" name="图片 7" descr=""/>
          <p:cNvPicPr/>
          <p:nvPr/>
        </p:nvPicPr>
        <p:blipFill>
          <a:blip r:embed="rId7"/>
          <a:stretch/>
        </p:blipFill>
        <p:spPr>
          <a:xfrm>
            <a:off x="611280" y="4313160"/>
            <a:ext cx="8208720" cy="792360"/>
          </a:xfrm>
          <a:prstGeom prst="rect">
            <a:avLst/>
          </a:prstGeom>
          <a:ln w="0">
            <a:noFill/>
          </a:ln>
        </p:spPr>
      </p:pic>
      <p:pic>
        <p:nvPicPr>
          <p:cNvPr id="1154" name="图片 8" descr=""/>
          <p:cNvPicPr/>
          <p:nvPr/>
        </p:nvPicPr>
        <p:blipFill>
          <a:blip r:embed="rId8"/>
          <a:stretch/>
        </p:blipFill>
        <p:spPr>
          <a:xfrm>
            <a:off x="684360" y="5114880"/>
            <a:ext cx="8208720" cy="428760"/>
          </a:xfrm>
          <a:prstGeom prst="rect">
            <a:avLst/>
          </a:prstGeom>
          <a:ln w="0">
            <a:noFill/>
          </a:ln>
        </p:spPr>
      </p:pic>
      <p:pic>
        <p:nvPicPr>
          <p:cNvPr id="1155" name="图片 9" descr=""/>
          <p:cNvPicPr/>
          <p:nvPr/>
        </p:nvPicPr>
        <p:blipFill>
          <a:blip r:embed="rId9"/>
          <a:stretch/>
        </p:blipFill>
        <p:spPr>
          <a:xfrm>
            <a:off x="684360" y="5592600"/>
            <a:ext cx="8208720" cy="428760"/>
          </a:xfrm>
          <a:prstGeom prst="rect">
            <a:avLst/>
          </a:prstGeom>
          <a:ln w="0">
            <a:noFill/>
          </a:ln>
        </p:spPr>
      </p:pic>
      <p:pic>
        <p:nvPicPr>
          <p:cNvPr id="1156" name="图片 10" descr=""/>
          <p:cNvPicPr/>
          <p:nvPr/>
        </p:nvPicPr>
        <p:blipFill>
          <a:blip r:embed="rId10"/>
          <a:stretch/>
        </p:blipFill>
        <p:spPr>
          <a:xfrm>
            <a:off x="611280" y="6021360"/>
            <a:ext cx="82087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图片 1" descr=""/>
          <p:cNvPicPr/>
          <p:nvPr/>
        </p:nvPicPr>
        <p:blipFill>
          <a:blip r:embed="rId1"/>
          <a:stretch/>
        </p:blipFill>
        <p:spPr>
          <a:xfrm>
            <a:off x="272880" y="946080"/>
            <a:ext cx="8599680" cy="5695920"/>
          </a:xfrm>
          <a:prstGeom prst="rect">
            <a:avLst/>
          </a:prstGeom>
          <a:ln w="0">
            <a:noFill/>
          </a:ln>
        </p:spPr>
      </p:pic>
      <p:pic>
        <p:nvPicPr>
          <p:cNvPr id="1158" name="图片 2" descr=""/>
          <p:cNvPicPr/>
          <p:nvPr/>
        </p:nvPicPr>
        <p:blipFill>
          <a:blip r:embed="rId2"/>
          <a:stretch/>
        </p:blipFill>
        <p:spPr>
          <a:xfrm>
            <a:off x="7947000" y="2495520"/>
            <a:ext cx="432000" cy="428760"/>
          </a:xfrm>
          <a:prstGeom prst="rect">
            <a:avLst/>
          </a:prstGeom>
          <a:ln w="0">
            <a:noFill/>
          </a:ln>
        </p:spPr>
      </p:pic>
      <p:pic>
        <p:nvPicPr>
          <p:cNvPr id="1159" name="图片 3" descr=""/>
          <p:cNvPicPr/>
          <p:nvPr/>
        </p:nvPicPr>
        <p:blipFill>
          <a:blip r:embed="rId3"/>
          <a:stretch/>
        </p:blipFill>
        <p:spPr>
          <a:xfrm>
            <a:off x="7956720" y="6308640"/>
            <a:ext cx="43164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0" name="图片 1" descr=""/>
          <p:cNvPicPr/>
          <p:nvPr/>
        </p:nvPicPr>
        <p:blipFill>
          <a:blip r:embed="rId1"/>
          <a:stretch/>
        </p:blipFill>
        <p:spPr>
          <a:xfrm>
            <a:off x="539640" y="700200"/>
            <a:ext cx="8066160" cy="61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352440" y="1504800"/>
            <a:ext cx="8439120" cy="3848400"/>
          </a:xfrm>
          <a:prstGeom prst="rect">
            <a:avLst/>
          </a:prstGeom>
          <a:ln w="0">
            <a:noFill/>
          </a:ln>
        </p:spPr>
      </p:pic>
      <p:pic>
        <p:nvPicPr>
          <p:cNvPr id="1108" name="图片 2" descr=""/>
          <p:cNvPicPr/>
          <p:nvPr/>
        </p:nvPicPr>
        <p:blipFill>
          <a:blip r:embed="rId2"/>
          <a:stretch/>
        </p:blipFill>
        <p:spPr>
          <a:xfrm>
            <a:off x="7947000" y="3213000"/>
            <a:ext cx="43200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1" name="图片 1" descr=""/>
          <p:cNvPicPr/>
          <p:nvPr/>
        </p:nvPicPr>
        <p:blipFill>
          <a:blip r:embed="rId1"/>
          <a:stretch/>
        </p:blipFill>
        <p:spPr>
          <a:xfrm>
            <a:off x="1006560" y="722160"/>
            <a:ext cx="7316640" cy="6112080"/>
          </a:xfrm>
          <a:prstGeom prst="rect">
            <a:avLst/>
          </a:prstGeom>
          <a:ln w="0">
            <a:noFill/>
          </a:ln>
        </p:spPr>
      </p:pic>
      <p:pic>
        <p:nvPicPr>
          <p:cNvPr id="1162" name="图片 2" descr=""/>
          <p:cNvPicPr/>
          <p:nvPr/>
        </p:nvPicPr>
        <p:blipFill>
          <a:blip r:embed="rId2"/>
          <a:stretch/>
        </p:blipFill>
        <p:spPr>
          <a:xfrm>
            <a:off x="7524720" y="1125360"/>
            <a:ext cx="43200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图片 1" descr=""/>
          <p:cNvPicPr/>
          <p:nvPr/>
        </p:nvPicPr>
        <p:blipFill>
          <a:blip r:embed="rId1"/>
          <a:stretch/>
        </p:blipFill>
        <p:spPr>
          <a:xfrm>
            <a:off x="314280" y="1162080"/>
            <a:ext cx="8515440" cy="5008680"/>
          </a:xfrm>
          <a:prstGeom prst="rect">
            <a:avLst/>
          </a:prstGeom>
          <a:ln w="0">
            <a:noFill/>
          </a:ln>
        </p:spPr>
      </p:pic>
      <p:pic>
        <p:nvPicPr>
          <p:cNvPr id="1164" name="图片 2" descr=""/>
          <p:cNvPicPr/>
          <p:nvPr/>
        </p:nvPicPr>
        <p:blipFill>
          <a:blip r:embed="rId2"/>
          <a:stretch/>
        </p:blipFill>
        <p:spPr>
          <a:xfrm>
            <a:off x="8028000" y="4797360"/>
            <a:ext cx="43164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5" name="图片 1" descr=""/>
          <p:cNvPicPr/>
          <p:nvPr/>
        </p:nvPicPr>
        <p:blipFill>
          <a:blip r:embed="rId1"/>
          <a:stretch/>
        </p:blipFill>
        <p:spPr>
          <a:xfrm>
            <a:off x="633240" y="1847880"/>
            <a:ext cx="78757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图片 1" descr=""/>
          <p:cNvPicPr/>
          <p:nvPr/>
        </p:nvPicPr>
        <p:blipFill>
          <a:blip r:embed="rId1"/>
          <a:stretch/>
        </p:blipFill>
        <p:spPr>
          <a:xfrm>
            <a:off x="361800" y="1147680"/>
            <a:ext cx="8420400" cy="4562640"/>
          </a:xfrm>
          <a:prstGeom prst="rect">
            <a:avLst/>
          </a:prstGeom>
          <a:ln w="0">
            <a:noFill/>
          </a:ln>
        </p:spPr>
      </p:pic>
      <p:pic>
        <p:nvPicPr>
          <p:cNvPr id="1167" name="图片 2" descr=""/>
          <p:cNvPicPr/>
          <p:nvPr/>
        </p:nvPicPr>
        <p:blipFill>
          <a:blip r:embed="rId2"/>
          <a:stretch/>
        </p:blipFill>
        <p:spPr>
          <a:xfrm>
            <a:off x="3851280" y="3830760"/>
            <a:ext cx="433440" cy="428400"/>
          </a:xfrm>
          <a:prstGeom prst="rect">
            <a:avLst/>
          </a:prstGeom>
          <a:ln w="0">
            <a:noFill/>
          </a:ln>
        </p:spPr>
      </p:pic>
      <p:pic>
        <p:nvPicPr>
          <p:cNvPr id="1168" name="图片 3" descr=""/>
          <p:cNvPicPr/>
          <p:nvPr/>
        </p:nvPicPr>
        <p:blipFill>
          <a:blip r:embed="rId3"/>
          <a:stretch/>
        </p:blipFill>
        <p:spPr>
          <a:xfrm>
            <a:off x="5076720" y="4776840"/>
            <a:ext cx="3743280" cy="428400"/>
          </a:xfrm>
          <a:prstGeom prst="rect">
            <a:avLst/>
          </a:prstGeom>
          <a:ln w="0">
            <a:noFill/>
          </a:ln>
        </p:spPr>
      </p:pic>
      <p:pic>
        <p:nvPicPr>
          <p:cNvPr id="1169" name="图片 4" descr=""/>
          <p:cNvPicPr/>
          <p:nvPr/>
        </p:nvPicPr>
        <p:blipFill>
          <a:blip r:embed="rId4"/>
          <a:stretch/>
        </p:blipFill>
        <p:spPr>
          <a:xfrm>
            <a:off x="1547640" y="5229360"/>
            <a:ext cx="136872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0" name="图片 1" descr=""/>
          <p:cNvPicPr/>
          <p:nvPr/>
        </p:nvPicPr>
        <p:blipFill>
          <a:blip r:embed="rId1"/>
          <a:stretch/>
        </p:blipFill>
        <p:spPr>
          <a:xfrm>
            <a:off x="290520" y="920880"/>
            <a:ext cx="8561520" cy="5648040"/>
          </a:xfrm>
          <a:prstGeom prst="rect">
            <a:avLst/>
          </a:prstGeom>
          <a:ln w="0">
            <a:noFill/>
          </a:ln>
        </p:spPr>
      </p:pic>
      <p:pic>
        <p:nvPicPr>
          <p:cNvPr id="1171" name="图片 2" descr=""/>
          <p:cNvPicPr/>
          <p:nvPr/>
        </p:nvPicPr>
        <p:blipFill>
          <a:blip r:embed="rId2"/>
          <a:stretch/>
        </p:blipFill>
        <p:spPr>
          <a:xfrm>
            <a:off x="6300720" y="4149720"/>
            <a:ext cx="2519280" cy="571680"/>
          </a:xfrm>
          <a:prstGeom prst="rect">
            <a:avLst/>
          </a:prstGeom>
          <a:ln w="0">
            <a:noFill/>
          </a:ln>
        </p:spPr>
      </p:pic>
      <p:pic>
        <p:nvPicPr>
          <p:cNvPr id="1172" name="图片 3" descr=""/>
          <p:cNvPicPr/>
          <p:nvPr/>
        </p:nvPicPr>
        <p:blipFill>
          <a:blip r:embed="rId3"/>
          <a:stretch/>
        </p:blipFill>
        <p:spPr>
          <a:xfrm>
            <a:off x="1258920" y="4745160"/>
            <a:ext cx="2521080" cy="428400"/>
          </a:xfrm>
          <a:prstGeom prst="rect">
            <a:avLst/>
          </a:prstGeom>
          <a:ln w="0">
            <a:noFill/>
          </a:ln>
        </p:spPr>
      </p:pic>
      <p:pic>
        <p:nvPicPr>
          <p:cNvPr id="1173" name="图片 4" descr=""/>
          <p:cNvPicPr/>
          <p:nvPr/>
        </p:nvPicPr>
        <p:blipFill>
          <a:blip r:embed="rId4"/>
          <a:stretch/>
        </p:blipFill>
        <p:spPr>
          <a:xfrm>
            <a:off x="5272200" y="5176800"/>
            <a:ext cx="3529080" cy="428760"/>
          </a:xfrm>
          <a:prstGeom prst="rect">
            <a:avLst/>
          </a:prstGeom>
          <a:ln w="0">
            <a:noFill/>
          </a:ln>
        </p:spPr>
      </p:pic>
      <p:pic>
        <p:nvPicPr>
          <p:cNvPr id="1174" name="图片 5" descr=""/>
          <p:cNvPicPr/>
          <p:nvPr/>
        </p:nvPicPr>
        <p:blipFill>
          <a:blip r:embed="rId5"/>
          <a:stretch/>
        </p:blipFill>
        <p:spPr>
          <a:xfrm>
            <a:off x="900000" y="5651640"/>
            <a:ext cx="7848720" cy="428400"/>
          </a:xfrm>
          <a:prstGeom prst="rect">
            <a:avLst/>
          </a:prstGeom>
          <a:ln w="0">
            <a:noFill/>
          </a:ln>
        </p:spPr>
      </p:pic>
      <p:pic>
        <p:nvPicPr>
          <p:cNvPr id="1175" name="图片 6" descr=""/>
          <p:cNvPicPr/>
          <p:nvPr/>
        </p:nvPicPr>
        <p:blipFill>
          <a:blip r:embed="rId6"/>
          <a:stretch/>
        </p:blipFill>
        <p:spPr>
          <a:xfrm>
            <a:off x="971640" y="6095880"/>
            <a:ext cx="691344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图片 1" descr=""/>
          <p:cNvPicPr/>
          <p:nvPr/>
        </p:nvPicPr>
        <p:blipFill>
          <a:blip r:embed="rId1"/>
          <a:stretch/>
        </p:blipFill>
        <p:spPr>
          <a:xfrm>
            <a:off x="366840" y="1135080"/>
            <a:ext cx="8408880" cy="5437080"/>
          </a:xfrm>
          <a:prstGeom prst="rect">
            <a:avLst/>
          </a:prstGeom>
          <a:ln w="0">
            <a:noFill/>
          </a:ln>
        </p:spPr>
      </p:pic>
      <p:pic>
        <p:nvPicPr>
          <p:cNvPr id="1177" name="图片 2" descr=""/>
          <p:cNvPicPr/>
          <p:nvPr/>
        </p:nvPicPr>
        <p:blipFill>
          <a:blip r:embed="rId2"/>
          <a:stretch/>
        </p:blipFill>
        <p:spPr>
          <a:xfrm>
            <a:off x="4716360" y="6073920"/>
            <a:ext cx="64764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8" name="图片 1" descr=""/>
          <p:cNvPicPr/>
          <p:nvPr/>
        </p:nvPicPr>
        <p:blipFill>
          <a:blip r:embed="rId1"/>
          <a:stretch/>
        </p:blipFill>
        <p:spPr>
          <a:xfrm>
            <a:off x="704880" y="871560"/>
            <a:ext cx="7734240" cy="5810400"/>
          </a:xfrm>
          <a:prstGeom prst="rect">
            <a:avLst/>
          </a:prstGeom>
          <a:ln w="0">
            <a:noFill/>
          </a:ln>
        </p:spPr>
      </p:pic>
      <p:pic>
        <p:nvPicPr>
          <p:cNvPr id="1179" name="图片 2" descr=""/>
          <p:cNvPicPr/>
          <p:nvPr/>
        </p:nvPicPr>
        <p:blipFill>
          <a:blip r:embed="rId2"/>
          <a:stretch/>
        </p:blipFill>
        <p:spPr>
          <a:xfrm>
            <a:off x="900000" y="1268280"/>
            <a:ext cx="7704360" cy="428760"/>
          </a:xfrm>
          <a:prstGeom prst="rect">
            <a:avLst/>
          </a:prstGeom>
          <a:ln w="0">
            <a:noFill/>
          </a:ln>
        </p:spPr>
      </p:pic>
      <p:pic>
        <p:nvPicPr>
          <p:cNvPr id="1180" name="图片 3" descr=""/>
          <p:cNvPicPr/>
          <p:nvPr/>
        </p:nvPicPr>
        <p:blipFill>
          <a:blip r:embed="rId3"/>
          <a:stretch/>
        </p:blipFill>
        <p:spPr>
          <a:xfrm>
            <a:off x="826920" y="1766880"/>
            <a:ext cx="7705800" cy="428760"/>
          </a:xfrm>
          <a:prstGeom prst="rect">
            <a:avLst/>
          </a:prstGeom>
          <a:ln w="0">
            <a:noFill/>
          </a:ln>
        </p:spPr>
      </p:pic>
      <p:pic>
        <p:nvPicPr>
          <p:cNvPr id="1181" name="图片 4" descr=""/>
          <p:cNvPicPr/>
          <p:nvPr/>
        </p:nvPicPr>
        <p:blipFill>
          <a:blip r:embed="rId4"/>
          <a:stretch/>
        </p:blipFill>
        <p:spPr>
          <a:xfrm>
            <a:off x="755640" y="2217600"/>
            <a:ext cx="7704000" cy="428760"/>
          </a:xfrm>
          <a:prstGeom prst="rect">
            <a:avLst/>
          </a:prstGeom>
          <a:ln w="0">
            <a:noFill/>
          </a:ln>
        </p:spPr>
      </p:pic>
      <p:pic>
        <p:nvPicPr>
          <p:cNvPr id="1182" name="图片 5" descr=""/>
          <p:cNvPicPr/>
          <p:nvPr/>
        </p:nvPicPr>
        <p:blipFill>
          <a:blip r:embed="rId5"/>
          <a:stretch/>
        </p:blipFill>
        <p:spPr>
          <a:xfrm>
            <a:off x="755640" y="2646360"/>
            <a:ext cx="7704000" cy="428760"/>
          </a:xfrm>
          <a:prstGeom prst="rect">
            <a:avLst/>
          </a:prstGeom>
          <a:ln w="0">
            <a:noFill/>
          </a:ln>
        </p:spPr>
      </p:pic>
      <p:pic>
        <p:nvPicPr>
          <p:cNvPr id="1183" name="图片 6" descr=""/>
          <p:cNvPicPr/>
          <p:nvPr/>
        </p:nvPicPr>
        <p:blipFill>
          <a:blip r:embed="rId6"/>
          <a:stretch/>
        </p:blipFill>
        <p:spPr>
          <a:xfrm>
            <a:off x="755640" y="3071880"/>
            <a:ext cx="7704000" cy="428400"/>
          </a:xfrm>
          <a:prstGeom prst="rect">
            <a:avLst/>
          </a:prstGeom>
          <a:ln w="0">
            <a:noFill/>
          </a:ln>
        </p:spPr>
      </p:pic>
      <p:pic>
        <p:nvPicPr>
          <p:cNvPr id="1184" name="图片 7" descr=""/>
          <p:cNvPicPr/>
          <p:nvPr/>
        </p:nvPicPr>
        <p:blipFill>
          <a:blip r:embed="rId7"/>
          <a:stretch/>
        </p:blipFill>
        <p:spPr>
          <a:xfrm>
            <a:off x="755640" y="3586320"/>
            <a:ext cx="7704000" cy="428400"/>
          </a:xfrm>
          <a:prstGeom prst="rect">
            <a:avLst/>
          </a:prstGeom>
          <a:ln w="0">
            <a:noFill/>
          </a:ln>
        </p:spPr>
      </p:pic>
      <p:pic>
        <p:nvPicPr>
          <p:cNvPr id="1185" name="图片 8" descr=""/>
          <p:cNvPicPr/>
          <p:nvPr/>
        </p:nvPicPr>
        <p:blipFill>
          <a:blip r:embed="rId8"/>
          <a:stretch/>
        </p:blipFill>
        <p:spPr>
          <a:xfrm>
            <a:off x="611280" y="4035600"/>
            <a:ext cx="7705800" cy="863280"/>
          </a:xfrm>
          <a:prstGeom prst="rect">
            <a:avLst/>
          </a:prstGeom>
          <a:ln w="0">
            <a:noFill/>
          </a:ln>
        </p:spPr>
      </p:pic>
      <p:pic>
        <p:nvPicPr>
          <p:cNvPr id="1186" name="图片 9" descr=""/>
          <p:cNvPicPr/>
          <p:nvPr/>
        </p:nvPicPr>
        <p:blipFill>
          <a:blip r:embed="rId9"/>
          <a:stretch/>
        </p:blipFill>
        <p:spPr>
          <a:xfrm>
            <a:off x="763560" y="4941720"/>
            <a:ext cx="7705800" cy="863640"/>
          </a:xfrm>
          <a:prstGeom prst="rect">
            <a:avLst/>
          </a:prstGeom>
          <a:ln w="0">
            <a:noFill/>
          </a:ln>
        </p:spPr>
      </p:pic>
      <p:pic>
        <p:nvPicPr>
          <p:cNvPr id="1187" name="图片 10" descr=""/>
          <p:cNvPicPr/>
          <p:nvPr/>
        </p:nvPicPr>
        <p:blipFill>
          <a:blip r:embed="rId10"/>
          <a:stretch/>
        </p:blipFill>
        <p:spPr>
          <a:xfrm>
            <a:off x="900000" y="5815080"/>
            <a:ext cx="7704360" cy="428400"/>
          </a:xfrm>
          <a:prstGeom prst="rect">
            <a:avLst/>
          </a:prstGeom>
          <a:ln w="0">
            <a:noFill/>
          </a:ln>
        </p:spPr>
      </p:pic>
      <p:pic>
        <p:nvPicPr>
          <p:cNvPr id="1188" name="图片 11" descr=""/>
          <p:cNvPicPr/>
          <p:nvPr/>
        </p:nvPicPr>
        <p:blipFill>
          <a:blip r:embed="rId11"/>
          <a:stretch/>
        </p:blipFill>
        <p:spPr>
          <a:xfrm>
            <a:off x="900000" y="6240600"/>
            <a:ext cx="770436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9" name="图片 1" descr=""/>
          <p:cNvPicPr/>
          <p:nvPr/>
        </p:nvPicPr>
        <p:blipFill>
          <a:blip r:embed="rId1"/>
          <a:stretch/>
        </p:blipFill>
        <p:spPr>
          <a:xfrm>
            <a:off x="318960" y="1238400"/>
            <a:ext cx="8504280" cy="4381200"/>
          </a:xfrm>
          <a:prstGeom prst="rect">
            <a:avLst/>
          </a:prstGeom>
          <a:ln w="0">
            <a:noFill/>
          </a:ln>
        </p:spPr>
      </p:pic>
      <p:pic>
        <p:nvPicPr>
          <p:cNvPr id="1110" name="图片 2" descr=""/>
          <p:cNvPicPr/>
          <p:nvPr/>
        </p:nvPicPr>
        <p:blipFill>
          <a:blip r:embed="rId2"/>
          <a:stretch/>
        </p:blipFill>
        <p:spPr>
          <a:xfrm>
            <a:off x="318960" y="4770360"/>
            <a:ext cx="5342040" cy="1170000"/>
          </a:xfrm>
          <a:prstGeom prst="rect">
            <a:avLst/>
          </a:prstGeom>
          <a:ln w="0">
            <a:noFill/>
          </a:ln>
        </p:spPr>
      </p:pic>
      <p:pic>
        <p:nvPicPr>
          <p:cNvPr id="1111" name="图片 3" descr=""/>
          <p:cNvPicPr/>
          <p:nvPr/>
        </p:nvPicPr>
        <p:blipFill>
          <a:blip r:embed="rId3"/>
          <a:stretch/>
        </p:blipFill>
        <p:spPr>
          <a:xfrm>
            <a:off x="8028000" y="2565360"/>
            <a:ext cx="43164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图片 4" descr=""/>
          <p:cNvPicPr/>
          <p:nvPr/>
        </p:nvPicPr>
        <p:blipFill>
          <a:blip r:embed="rId1"/>
          <a:stretch/>
        </p:blipFill>
        <p:spPr>
          <a:xfrm>
            <a:off x="390600" y="790560"/>
            <a:ext cx="8362800" cy="5886360"/>
          </a:xfrm>
          <a:prstGeom prst="rect">
            <a:avLst/>
          </a:prstGeom>
          <a:ln w="0">
            <a:noFill/>
          </a:ln>
        </p:spPr>
      </p:pic>
      <p:pic>
        <p:nvPicPr>
          <p:cNvPr id="1113" name="图片 5" descr=""/>
          <p:cNvPicPr/>
          <p:nvPr/>
        </p:nvPicPr>
        <p:blipFill>
          <a:blip r:embed="rId2"/>
          <a:stretch/>
        </p:blipFill>
        <p:spPr>
          <a:xfrm>
            <a:off x="5742000" y="652320"/>
            <a:ext cx="3135240" cy="885960"/>
          </a:xfrm>
          <a:prstGeom prst="rect">
            <a:avLst/>
          </a:prstGeom>
          <a:ln w="0">
            <a:noFill/>
          </a:ln>
        </p:spPr>
      </p:pic>
      <p:pic>
        <p:nvPicPr>
          <p:cNvPr id="1114" name="图片 3" descr=""/>
          <p:cNvPicPr/>
          <p:nvPr/>
        </p:nvPicPr>
        <p:blipFill>
          <a:blip r:embed="rId3"/>
          <a:stretch/>
        </p:blipFill>
        <p:spPr>
          <a:xfrm>
            <a:off x="7956720" y="1557360"/>
            <a:ext cx="431640" cy="428760"/>
          </a:xfrm>
          <a:prstGeom prst="rect">
            <a:avLst/>
          </a:prstGeom>
          <a:ln w="0">
            <a:noFill/>
          </a:ln>
        </p:spPr>
      </p:pic>
      <p:pic>
        <p:nvPicPr>
          <p:cNvPr id="1115" name="图片 4" descr=""/>
          <p:cNvPicPr/>
          <p:nvPr/>
        </p:nvPicPr>
        <p:blipFill>
          <a:blip r:embed="rId4"/>
          <a:stretch/>
        </p:blipFill>
        <p:spPr>
          <a:xfrm>
            <a:off x="7947000" y="6302520"/>
            <a:ext cx="43200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图片 2" descr=""/>
          <p:cNvPicPr/>
          <p:nvPr/>
        </p:nvPicPr>
        <p:blipFill>
          <a:blip r:embed="rId1"/>
          <a:stretch/>
        </p:blipFill>
        <p:spPr>
          <a:xfrm>
            <a:off x="874800" y="4027320"/>
            <a:ext cx="6915240" cy="2570400"/>
          </a:xfrm>
          <a:prstGeom prst="rect">
            <a:avLst/>
          </a:prstGeom>
          <a:ln w="0">
            <a:noFill/>
          </a:ln>
        </p:spPr>
      </p:pic>
      <p:pic>
        <p:nvPicPr>
          <p:cNvPr id="1117" name="图片 3" descr=""/>
          <p:cNvPicPr/>
          <p:nvPr/>
        </p:nvPicPr>
        <p:blipFill>
          <a:blip r:embed="rId2"/>
          <a:stretch/>
        </p:blipFill>
        <p:spPr>
          <a:xfrm>
            <a:off x="874800" y="965160"/>
            <a:ext cx="675324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图片 1" descr=""/>
          <p:cNvPicPr/>
          <p:nvPr/>
        </p:nvPicPr>
        <p:blipFill>
          <a:blip r:embed="rId1"/>
          <a:stretch/>
        </p:blipFill>
        <p:spPr>
          <a:xfrm>
            <a:off x="506520" y="787320"/>
            <a:ext cx="8294760" cy="5967360"/>
          </a:xfrm>
          <a:prstGeom prst="rect">
            <a:avLst/>
          </a:prstGeom>
          <a:ln w="0">
            <a:noFill/>
          </a:ln>
        </p:spPr>
      </p:pic>
      <p:pic>
        <p:nvPicPr>
          <p:cNvPr id="1119" name="图片 2" descr=""/>
          <p:cNvPicPr/>
          <p:nvPr/>
        </p:nvPicPr>
        <p:blipFill>
          <a:blip r:embed="rId2"/>
          <a:stretch/>
        </p:blipFill>
        <p:spPr>
          <a:xfrm>
            <a:off x="7966080" y="1200240"/>
            <a:ext cx="43164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图片 1" descr=""/>
          <p:cNvPicPr/>
          <p:nvPr/>
        </p:nvPicPr>
        <p:blipFill>
          <a:blip r:embed="rId1"/>
          <a:stretch/>
        </p:blipFill>
        <p:spPr>
          <a:xfrm>
            <a:off x="366840" y="1262160"/>
            <a:ext cx="8408880" cy="4333680"/>
          </a:xfrm>
          <a:prstGeom prst="rect">
            <a:avLst/>
          </a:prstGeom>
          <a:ln w="0">
            <a:noFill/>
          </a:ln>
        </p:spPr>
      </p:pic>
      <p:pic>
        <p:nvPicPr>
          <p:cNvPr id="1121" name="图片 2" descr=""/>
          <p:cNvPicPr/>
          <p:nvPr/>
        </p:nvPicPr>
        <p:blipFill>
          <a:blip r:embed="rId2"/>
          <a:stretch/>
        </p:blipFill>
        <p:spPr>
          <a:xfrm>
            <a:off x="8028000" y="5241960"/>
            <a:ext cx="43164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图片 1" descr=""/>
          <p:cNvPicPr/>
          <p:nvPr/>
        </p:nvPicPr>
        <p:blipFill>
          <a:blip r:embed="rId1"/>
          <a:stretch/>
        </p:blipFill>
        <p:spPr>
          <a:xfrm>
            <a:off x="961920" y="1122480"/>
            <a:ext cx="722016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3" name="图片 1" descr=""/>
          <p:cNvPicPr/>
          <p:nvPr/>
        </p:nvPicPr>
        <p:blipFill>
          <a:blip r:embed="rId1"/>
          <a:stretch/>
        </p:blipFill>
        <p:spPr>
          <a:xfrm>
            <a:off x="333360" y="1481040"/>
            <a:ext cx="8477280" cy="3895920"/>
          </a:xfrm>
          <a:prstGeom prst="rect">
            <a:avLst/>
          </a:prstGeom>
          <a:ln w="0">
            <a:noFill/>
          </a:ln>
        </p:spPr>
      </p:pic>
      <p:pic>
        <p:nvPicPr>
          <p:cNvPr id="1124" name="图片 2" descr=""/>
          <p:cNvPicPr/>
          <p:nvPr/>
        </p:nvPicPr>
        <p:blipFill>
          <a:blip r:embed="rId2"/>
          <a:stretch/>
        </p:blipFill>
        <p:spPr>
          <a:xfrm>
            <a:off x="7956720" y="4941720"/>
            <a:ext cx="43164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4T03:48:19Z</dcterms:modified>
  <cp:revision>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